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002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33E2-E32C-4BC0-9424-848E1AA2BA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I’m dav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alk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kinds of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motivated by key observation: change pain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just take my word for it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o other dist system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difference: can’t just install new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: so use mobile co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the vision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any ways to go about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S is pretty aggressive, far beyond commercial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change over the past few years: acceptance of the role of comp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onto 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rt control,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… arbitrating resource requests,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alize all we need to build is a scalable, robust, efficient, secure and extensible distributed system … there were complications on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70000" y="6732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9360" y="4324320"/>
            <a:ext cx="5072040" cy="4098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something to run programs on … active nodes … incrementally deployable / back comp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des provide api. Our is lightweight – soft-state is a key 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des provide protection by running programs safely, limit packet rewriting for security and debu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des do the resour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0000" y="6732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9360" y="4324320"/>
            <a:ext cx="5072040" cy="40989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F9A71-307E-4DA1-BA8F-EE05F49D0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DC11-EA11-4B7F-AC82-404B5393D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17952-5935-497B-BF50-55DB6C3F2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742B-3ADA-4AD7-8212-137354C7E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AE7DC-82D2-4AFE-9261-EDDF6BCBB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355A8-C26F-474E-A682-AC40C363A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088B2-8462-454E-BA02-11F4F70FE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5316-6106-4B7D-8979-53315EB43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5BA62-7DB4-4713-98DA-70F352C9C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78FC4-BDFB-4B8C-8FF7-A1EA9623C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D0CF5-AD50-4C82-9EC3-FDC7EC213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1CB7A-FF7F-485B-B574-A55B87C16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troke-g1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7953120" cy="419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57200" y="622944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jw // SOSP // 12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786A-41E4-4483-AD2A-74B9543289C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troke-g1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795348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1000" y="685440"/>
            <a:ext cx="828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tive Network Vision and Reality:</a:t>
            </a:r>
            <a:br>
              <a:rPr sz="2800"/>
            </a:br>
            <a:r>
              <a:rPr b="1" lang="en-US" sz="2400" spc="-1" strike="noStrike">
                <a:solidFill>
                  <a:srgbClr val="5e574e"/>
                </a:solidFill>
                <a:latin typeface="Verdana"/>
              </a:rPr>
              <a:t>Lessons from a Capsule-based Syste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3276360"/>
            <a:ext cx="69343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vid Wetheral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niversity of Washingt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ith thanks to David Tennenhouse, John Guttag, Steve Garland, Ulana Legedza, Erik Nygren, and members of   the MIT SDS group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mplementation — ANTS Toolki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r-level reference platfor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~10,000 lines, 100% Java, UDP overl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des build on Java prote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ublicly released for two yea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ttp://www.cs.washington.edu/homes/djw/ants/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d at MIT, Utah, TIS, TASC, SRI, UIUC, UCLA, 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C399F-E099-4B6F-8CA2-B24AB7CA7F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. Lessons Learn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terested in three dimension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urity and Resource Manage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FB98D-F24B-45A7-A3F1-CFEBB829E2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a. Application Less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Q: Can we deploy important services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hosen approach lets users select independentl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grams constrained by active nod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: Ye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ll-suited to experimenting w/ protocol variations (rather than computation pushed into network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ceptions: enforcing policy at a point (firewalls) and resource control (guaranteed servic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B905-8977-46C5-A507-FD76F20925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s We’ve Writte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uc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eb cache diversion rout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CP-SYN” filter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iable Multicast suppor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ulticast (single source, PIM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th MTU discove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086600" y="25146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77560" y="21337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16840" y="4876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D99D-B675-4A3C-9ABD-0B88D3FA1B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b. Performance Less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Q: Is performance a show-stopper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del is more expensive than I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: No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ry few extra steps over IP in common case and extra steps (demux, safe eval) known to run fa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lance available vs. required comput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 1GHz, 1Gbps, 1000b, 100%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000 cycl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F35B-25C1-4A67-83FB-AD7584912F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d Perform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4400" y="1828800"/>
          <a:ext cx="3352680" cy="33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335268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105520" y="1905120"/>
          <a:ext cx="3324240" cy="3352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905120"/>
                    <a:ext cx="3324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514160" y="571500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95800" y="571500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040" y="2133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4040" y="4191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27360" y="43434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27360" y="32767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27360" y="274320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65520" y="5060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7040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17040" y="5105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8520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10080" y="516564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e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24880" y="518148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e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" y="32004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20240" y="37339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16320" y="2362320"/>
            <a:ext cx="12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33920" y="396252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va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6880" y="46036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70960" y="4267080"/>
            <a:ext cx="12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12160" y="327672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va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25440" y="2286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1C1F4-FF81-40C4-B46D-72A9B6EB7C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c. Security and Resource Mgmt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Q: Can untrusted users program the network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to isolate services and protect networ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: Partly. This is difficult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quires Prote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y program can’t corrupt your progra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Solv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quires Resource Manage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y program can’t starve your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Not solv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205DC-741A-4CF6-B27C-2360B5A99D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ndling of Resource Mgmt Task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2133720"/>
          <a:ext cx="6705360" cy="3489120"/>
        </p:xfrm>
        <a:graphic>
          <a:graphicData uri="http://schemas.openxmlformats.org/drawingml/2006/table">
            <a:tbl>
              <a:tblPr/>
              <a:tblGrid>
                <a:gridCol w="2238120"/>
                <a:gridCol w="2409840"/>
                <a:gridCol w="205740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tern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er Pack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t A Rou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mited by design of 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mited for simple 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er Pack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ong Pat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mited by protocol desig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oops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ole 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er U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ed FQ or penalty box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me as Intern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D26D4-044D-4073-A82E-5F248CB543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ample of Buggy Multicas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should we prevent this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TLs are a weak solution; not related to topolo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irness mechanisms mitigate, but not enoug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NTS falls back on certification of programs 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28954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28954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3429000"/>
            <a:ext cx="60948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2209680"/>
            <a:ext cx="60948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267080" y="26665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2004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3276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34290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350532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36576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373392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028840" y="2743200"/>
            <a:ext cx="11430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7240" y="2301840"/>
            <a:ext cx="15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op th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0374-76ED-4D1F-AE2A-5D07650103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are important applica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erformance is not the limiting facto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tection is not the limiting facto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source Management remains problematic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E9177-FF42-461C-96A0-9C7B10718A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s Talk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tive network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TS, our active network syste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711360" indent="-711360"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3A9A-647D-4682-8D25-9788E30086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. Active Networks — Motiv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etwork change is excruciatingly slow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despread consensus, manual deploy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gestion (RED ‘93); More Addresses (IPv6 ‘91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urity (IPSEC ‘93); Multi-point (IP multicast ‘90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trast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b (‘93); Quake (‘96); Instant Messaging (‘98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"/>
          <p:cNvSpPr/>
          <p:nvPr/>
        </p:nvSpPr>
        <p:spPr>
          <a:xfrm>
            <a:off x="2511000" y="5638680"/>
            <a:ext cx="34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th fixing? Your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4D9A8-0CFF-4EE0-950F-2FA32ADA1A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tive Networks — Approach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pply mobile code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ase deployment; accelerate pace of innov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Cloud"/>
          <p:cNvSpPr/>
          <p:nvPr/>
        </p:nvSpPr>
        <p:spPr>
          <a:xfrm rot="297600">
            <a:off x="4343040" y="3428640"/>
            <a:ext cx="2743200" cy="183816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3581280"/>
            <a:ext cx="1447920" cy="482760"/>
          </a:xfrm>
          <a:custGeom>
            <a:avLst/>
            <a:gdLst/>
            <a:ahLst/>
            <a:rect l="l" t="t" r="r" b="b"/>
            <a:pathLst>
              <a:path w="1800" h="456">
                <a:moveTo>
                  <a:pt x="0" y="392"/>
                </a:moveTo>
                <a:cubicBezTo>
                  <a:pt x="8" y="372"/>
                  <a:pt x="16" y="352"/>
                  <a:pt x="96" y="296"/>
                </a:cubicBezTo>
                <a:cubicBezTo>
                  <a:pt x="176" y="240"/>
                  <a:pt x="320" y="96"/>
                  <a:pt x="480" y="56"/>
                </a:cubicBezTo>
                <a:cubicBezTo>
                  <a:pt x="640" y="16"/>
                  <a:pt x="856" y="0"/>
                  <a:pt x="1056" y="56"/>
                </a:cubicBezTo>
                <a:cubicBezTo>
                  <a:pt x="1256" y="112"/>
                  <a:pt x="1560" y="328"/>
                  <a:pt x="1680" y="392"/>
                </a:cubicBezTo>
                <a:cubicBezTo>
                  <a:pt x="1800" y="456"/>
                  <a:pt x="1788" y="448"/>
                  <a:pt x="1776" y="44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4267080"/>
            <a:ext cx="1447920" cy="482760"/>
          </a:xfrm>
          <a:custGeom>
            <a:avLst/>
            <a:gdLst/>
            <a:ahLst/>
            <a:rect l="l" t="t" r="r" b="b"/>
            <a:pathLst>
              <a:path w="1800" h="456">
                <a:moveTo>
                  <a:pt x="0" y="392"/>
                </a:moveTo>
                <a:cubicBezTo>
                  <a:pt x="8" y="372"/>
                  <a:pt x="16" y="352"/>
                  <a:pt x="96" y="296"/>
                </a:cubicBezTo>
                <a:cubicBezTo>
                  <a:pt x="176" y="240"/>
                  <a:pt x="320" y="96"/>
                  <a:pt x="480" y="56"/>
                </a:cubicBezTo>
                <a:cubicBezTo>
                  <a:pt x="640" y="16"/>
                  <a:pt x="856" y="0"/>
                  <a:pt x="1056" y="56"/>
                </a:cubicBezTo>
                <a:cubicBezTo>
                  <a:pt x="1256" y="112"/>
                  <a:pt x="1560" y="328"/>
                  <a:pt x="1680" y="392"/>
                </a:cubicBezTo>
                <a:cubicBezTo>
                  <a:pt x="1800" y="456"/>
                  <a:pt x="1788" y="448"/>
                  <a:pt x="1776" y="44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4495680"/>
            <a:ext cx="6094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3809880"/>
            <a:ext cx="457200" cy="381240"/>
          </a:xfrm>
          <a:custGeom>
            <a:avLst/>
            <a:gdLst>
              <a:gd name="textAreaLeft" fmla="*/ 100440 w 457200"/>
              <a:gd name="textAreaRight" fmla="*/ 356760 w 457200"/>
              <a:gd name="textAreaTop" fmla="*/ 83880 h 381240"/>
              <a:gd name="textAreaBottom" fmla="*/ 2973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29120" y="380988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02200" y="37339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bile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64680" y="449568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12B9D-A213-4F41-9609-769D4CD573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146480" y="2195640"/>
            <a:ext cx="1406520" cy="47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tive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nds of Active Network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695960" y="5562720"/>
            <a:ext cx="52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TS explores an aggressive 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198108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819520" y="46483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6160" y="40384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4680" y="20574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88600" y="47242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32600" y="4724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0560" y="2120040"/>
            <a:ext cx="1200960" cy="821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80320" y="2804400"/>
            <a:ext cx="977040" cy="56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74440" y="2575800"/>
            <a:ext cx="1166760" cy="56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84160" y="3872160"/>
            <a:ext cx="1242360" cy="47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1280" y="2881800"/>
            <a:ext cx="1350360" cy="821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7800" y="3871080"/>
            <a:ext cx="856440" cy="56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94920" y="2194560"/>
            <a:ext cx="1335240" cy="649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8640" y="3490200"/>
            <a:ext cx="1033200" cy="56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7A60-2362-4741-9B92-4684624891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. ANTS, Starting at 10,000 f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oal: Let each user control their packe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Cloud"/>
          <p:cNvSpPr/>
          <p:nvPr/>
        </p:nvSpPr>
        <p:spPr>
          <a:xfrm rot="319200">
            <a:off x="3352320" y="2997360"/>
            <a:ext cx="2743200" cy="183816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064040"/>
            <a:ext cx="5181480" cy="965160"/>
          </a:xfrm>
          <a:custGeom>
            <a:avLst/>
            <a:gdLst/>
            <a:ahLst/>
            <a:rect l="l" t="t" r="r" b="b"/>
            <a:pathLst>
              <a:path w="3264" h="608">
                <a:moveTo>
                  <a:pt x="0" y="608"/>
                </a:moveTo>
                <a:cubicBezTo>
                  <a:pt x="520" y="336"/>
                  <a:pt x="1040" y="64"/>
                  <a:pt x="1584" y="32"/>
                </a:cubicBezTo>
                <a:cubicBezTo>
                  <a:pt x="2128" y="0"/>
                  <a:pt x="2696" y="208"/>
                  <a:pt x="3264" y="416"/>
                </a:cubicBezTo>
              </a:path>
            </a:pathLst>
          </a:custGeom>
          <a:noFill/>
          <a:ln w="572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0659800">
            <a:off x="2742840" y="2514240"/>
            <a:ext cx="4572000" cy="1625760"/>
          </a:xfrm>
          <a:custGeom>
            <a:avLst/>
            <a:gdLst/>
            <a:ahLst/>
            <a:rect l="l" t="t" r="r" b="b"/>
            <a:pathLst>
              <a:path w="2880" h="1024">
                <a:moveTo>
                  <a:pt x="0" y="0"/>
                </a:moveTo>
                <a:cubicBezTo>
                  <a:pt x="312" y="352"/>
                  <a:pt x="624" y="704"/>
                  <a:pt x="1104" y="864"/>
                </a:cubicBezTo>
                <a:cubicBezTo>
                  <a:pt x="1584" y="1024"/>
                  <a:pt x="2232" y="992"/>
                  <a:pt x="2880" y="96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18520" y="2828880"/>
            <a:ext cx="15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/E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61800" y="465768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3835440"/>
            <a:ext cx="38088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514680"/>
            <a:ext cx="38124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216320"/>
            <a:ext cx="38088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3606840"/>
            <a:ext cx="38088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95560"/>
            <a:ext cx="381240" cy="3812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421632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530" y="0"/>
                </a:lnTo>
                <a:lnTo>
                  <a:pt x="21600" y="10800"/>
                </a:lnTo>
                <a:lnTo>
                  <a:pt x="105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474984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530" y="0"/>
                </a:lnTo>
                <a:lnTo>
                  <a:pt x="21600" y="10800"/>
                </a:lnTo>
                <a:lnTo>
                  <a:pt x="105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452124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530" y="0"/>
                </a:lnTo>
                <a:lnTo>
                  <a:pt x="21600" y="10800"/>
                </a:lnTo>
                <a:lnTo>
                  <a:pt x="105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330192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530" y="0"/>
                </a:lnTo>
                <a:lnTo>
                  <a:pt x="21600" y="10800"/>
                </a:lnTo>
                <a:lnTo>
                  <a:pt x="105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353052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530" y="0"/>
                </a:lnTo>
                <a:lnTo>
                  <a:pt x="21600" y="10800"/>
                </a:lnTo>
                <a:lnTo>
                  <a:pt x="105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69720" y="275256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17080" y="49021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334120" y="4292280"/>
            <a:ext cx="457200" cy="66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705720" y="3209760"/>
            <a:ext cx="30456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87280" y="591804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 we build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64760" y="328608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80503-1457-4808-86F7-4D060867A2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tive Nodes Host New Servic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des provide API for new service co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ft-storage, routing, environment queries,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packet manipul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des run service code safel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tect state at node; enforce packet invaria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des manage local resour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und code runtimes and other resour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1AE6E-02CA-4765-9FD4-EFB6C81BAC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de Follows Packets As Need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ie code distribution to packet forward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d-systems pre-load code, active nodes load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hop-by-hop as needed and then cach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3429000"/>
            <a:ext cx="0" cy="235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3505320"/>
            <a:ext cx="0" cy="2584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54240" y="3581280"/>
            <a:ext cx="2889360" cy="45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3498840"/>
            <a:ext cx="673200" cy="216000"/>
          </a:xfrm>
          <a:custGeom>
            <a:avLst/>
            <a:gdLst>
              <a:gd name="textAreaLeft" fmla="*/ 0 w 673200"/>
              <a:gd name="textAreaRight" fmla="*/ 673560 w 6732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8440" y="5349960"/>
            <a:ext cx="673200" cy="215640"/>
          </a:xfrm>
          <a:custGeom>
            <a:avLst/>
            <a:gdLst>
              <a:gd name="textAreaLeft" fmla="*/ 0 w 673200"/>
              <a:gd name="textAreaRight" fmla="*/ 673560 w 6732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5562720"/>
            <a:ext cx="672840" cy="215640"/>
          </a:xfrm>
          <a:custGeom>
            <a:avLst/>
            <a:gdLst>
              <a:gd name="textAreaLeft" fmla="*/ 0 w 672840"/>
              <a:gd name="textAreaRight" fmla="*/ 672840 w 6728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568840" y="4130640"/>
            <a:ext cx="673200" cy="216000"/>
          </a:xfrm>
          <a:custGeom>
            <a:avLst/>
            <a:gdLst>
              <a:gd name="textAreaLeft" fmla="*/ 360 w 673200"/>
              <a:gd name="textAreaRight" fmla="*/ 673920 w 6732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92480" y="5197320"/>
            <a:ext cx="672840" cy="216000"/>
          </a:xfrm>
          <a:custGeom>
            <a:avLst/>
            <a:gdLst>
              <a:gd name="textAreaLeft" fmla="*/ 0 w 672840"/>
              <a:gd name="textAreaRight" fmla="*/ 672840 w 6728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16160" y="5045040"/>
            <a:ext cx="673200" cy="216000"/>
          </a:xfrm>
          <a:custGeom>
            <a:avLst/>
            <a:gdLst>
              <a:gd name="textAreaLeft" fmla="*/ 0 w 673200"/>
              <a:gd name="textAreaRight" fmla="*/ 673560 w 6732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521080" y="4282920"/>
            <a:ext cx="2813040" cy="60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0560" y="5181480"/>
            <a:ext cx="2660760" cy="45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4120" y="3962520"/>
            <a:ext cx="121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v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28480" y="3946680"/>
            <a:ext cx="1084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040" y="4387680"/>
            <a:ext cx="1169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91520" y="4876920"/>
            <a:ext cx="0" cy="106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77480" y="510552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82840" y="5334120"/>
            <a:ext cx="2660760" cy="45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5040360"/>
            <a:ext cx="2660760" cy="45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70720" y="5241960"/>
            <a:ext cx="140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46960" y="36576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19040" y="585144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7989D-1ADE-42D6-8ADB-4EC10678DD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ckets Refer To Code They Ne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ference is based on fingerpri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fficient: MD5 is 128 bits, quick to compu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events code spoofing: verify without tru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 need for standards body: distributed nam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2286000"/>
            <a:ext cx="5105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1981080"/>
            <a:ext cx="2895480" cy="5335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98120" y="19731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819520"/>
            <a:ext cx="160020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6480" y="2811600"/>
            <a:ext cx="8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2209680"/>
            <a:ext cx="2095560" cy="685800"/>
          </a:xfrm>
          <a:custGeom>
            <a:avLst/>
            <a:gdLst/>
            <a:ahLst/>
            <a:rect l="l" t="t" r="r" b="b"/>
            <a:pathLst>
              <a:path w="1320" h="528">
                <a:moveTo>
                  <a:pt x="1296" y="0"/>
                </a:moveTo>
                <a:cubicBezTo>
                  <a:pt x="1308" y="192"/>
                  <a:pt x="1320" y="384"/>
                  <a:pt x="1200" y="432"/>
                </a:cubicBezTo>
                <a:cubicBezTo>
                  <a:pt x="1080" y="480"/>
                  <a:pt x="744" y="312"/>
                  <a:pt x="576" y="288"/>
                </a:cubicBezTo>
                <a:cubicBezTo>
                  <a:pt x="408" y="264"/>
                  <a:pt x="288" y="248"/>
                  <a:pt x="192" y="288"/>
                </a:cubicBezTo>
                <a:cubicBezTo>
                  <a:pt x="96" y="328"/>
                  <a:pt x="48" y="428"/>
                  <a:pt x="0" y="52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28440" y="2743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038480" y="2819160"/>
            <a:ext cx="4572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295A2-99A3-47B0-9A15-21C4CC2605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3:00:51Z</dcterms:created>
  <dc:creator>David Wetherall</dc:creator>
  <dc:description/>
  <dc:language>en-US</dc:language>
  <cp:lastModifiedBy>Neil Stratford</cp:lastModifiedBy>
  <dcterms:modified xsi:type="dcterms:W3CDTF">2000-01-31T13:37:16Z</dcterms:modified>
  <cp:revision>51</cp:revision>
  <dc:subject/>
  <dc:title>Active Network Vision and Reality: Lessons from a Capsule-based System</dc:title>
</cp:coreProperties>
</file>